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gif" ContentType="image/gif"/>
  <Override PartName="/ppt/media/image21.png" ContentType="image/png"/>
  <Override PartName="/ppt/media/image18.gif" ContentType="image/gif"/>
  <Override PartName="/ppt/media/image19.gif" ContentType="image/gif"/>
  <Override PartName="/ppt/media/image5.png" ContentType="image/png"/>
  <Override PartName="/ppt/media/image10.png" ContentType="image/png"/>
  <Override PartName="/ppt/media/image16.png" ContentType="image/png"/>
  <Override PartName="/ppt/media/image20.png" ContentType="image/png"/>
  <Override PartName="/ppt/media/image15.gif" ContentType="image/gif"/>
  <Override PartName="/ppt/media/image17.png" ContentType="image/png"/>
  <Override PartName="/ppt/media/image14.gif" ContentType="image/gif"/>
  <Override PartName="/ppt/media/image3.png" ContentType="image/png"/>
  <Override PartName="/ppt/media/image23.gif" ContentType="image/gif"/>
  <Override PartName="/ppt/media/image4.jpeg" ContentType="image/jpeg"/>
  <Override PartName="/ppt/media/image2.png" ContentType="image/png"/>
  <Override PartName="/ppt/media/image22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F45F-897C-42F7-BEC8-815FADA2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621C-57E8-4C82-BE94-ECBD594D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C1440-F2D8-4B3D-B684-C7E656EA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36337-EE85-4591-B0EB-0A5CF14B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A2F81-40EB-4581-8D1A-D624C78F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04A6C-6A3C-462B-A3DA-4F274D4E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AC7CA-5F0F-483D-B4BD-50CD4030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858F3-D346-4C2A-B3AD-E1F7872E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FF7D0-E9E7-468B-86CE-3986918E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CB962-DAAE-4F00-A441-0D602555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4DAA8-1353-4E47-AC40-892CD395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8CC-306F-4B03-ADE2-259FA8FA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D0E3-EFED-4C0A-B50D-CFB34179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86DC-A5A0-476F-B028-423AF237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123B-A2F9-4A3D-9EAF-CBDC8182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4082-8337-4C61-BEE6-85370E5A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34B4-F323-47E5-B703-46D9DA28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5F3A-4324-4E3C-9CFA-9E73118E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47C5-9D78-4883-9920-A23A8740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F5EE-8001-4D42-A0D9-935447CC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E8F-D175-40A5-9255-58B2B06D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77F1-35E1-42FD-B572-CD9F1F0B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393B-EC03-41A4-B04E-7DAE5291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1D69-7599-4734-BE2A-0E6CD710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3117-6848-49DE-A5CC-0798AB2B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4CFD-52A1-485D-BFE6-39D1F64F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7D847-8EA4-46C0-A0E4-D088D00E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6916A-CDD6-4394-8FC7-3A662341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85082-D33F-4DF7-A361-19C34BFA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5944C-E3D2-4D6C-A612-C3F63224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1BA4E-18EA-4A01-A0AC-8C46C669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D41B-3C4E-44C8-8438-839F335D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EB14F-2DF4-48BE-AAFA-A7CC026D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13836-EEC9-4B97-93CD-6F6A627A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CC144-74D4-42B4-BDB7-381DF6B2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F9FF4-51EB-4529-B8EF-425FAAAA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DECEF-4B78-464F-8066-C6B803FE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6EFA4-2EBE-40B6-A60D-E7111456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2EAAA-8C0A-4882-88DD-09580B77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2E4E1-5DFC-4F21-B32A-1CDF3826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F173D-EFE0-46C4-B275-6FB7A415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577FA-44E1-42DC-BDED-0BAF6B5C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05E-4541-4BB8-A283-D4215947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34900-9577-4834-9A34-636D0178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31A17-4FF3-4E9F-A45E-67547C07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864EB-E387-429D-A93E-D7271644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98487-7B60-4EC6-90E6-D7FF5657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AD905-AB85-417C-8902-DCE849C9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D34FD-C9A6-4212-99D7-4CCF861A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10A09-1BC7-4093-9566-DC8026F8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C3807-BD45-4EE0-8A84-98D4F1E5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B86E0-1459-4EEC-BE71-680682BD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DCB10-AA18-4825-90EB-0940055B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8C1-B287-4628-89C8-8C913806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95063-62A9-4882-9B37-16AB8F73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5C146-CA92-444F-B4ED-AC7102BD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E18A5-61A5-4064-B066-B69FB577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A262C-C191-4EE0-954A-A5791C72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396C7-22C5-403F-B7E9-DE79E033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490F0-946D-41DB-9E1A-71C50ECC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AECDB-80DA-4B3C-9DD1-5FA529C1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8BA80-DF8F-4672-999B-32AE5921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4C0A7-467F-4288-BA35-B6A3CA0B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7DEC5-DE26-4153-9363-9C8F5949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6540-7778-42D7-A8D1-2CCA1863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00F53-0BED-4EA9-9C89-28226DF6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3E604-D7CD-45BF-86FF-0869DADB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3B21B-9A39-4573-8EE3-55D3CE10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F22D3-BC85-4359-99EC-04A6F31A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4D858-C579-4DE8-837E-1673083D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D7D66-919C-4DE7-91B8-5899E508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9E2CC-001E-4B53-A31B-031779F8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15EF4-D2DD-4C3F-8F0C-EDFCBA0A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BD4DB-3593-4ABB-83CF-5EECD8FB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543BC-C69A-4F14-A0BB-8D882ED6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171-747D-46E9-8B36-9AFBEC03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37418-1146-4385-8641-C5E8D19A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6AFF3-0D37-4082-A18F-B2DBE03C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15A9E-BAD0-4ADE-BF5C-FB722D16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BA379-D1F6-4826-B3CF-980D2E9A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966A4-C7AB-4DD0-BC3B-48CD448E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13258-4DAD-4481-962A-0718BDFB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A1B7C-6C67-42E8-8F97-DF959406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36EB4-EF65-4A24-9C39-13B62627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1EE33-BA36-4A61-9BF6-D01A6390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C957B-7D52-4CB8-A2C7-0D1BC3AD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0F5-2114-45B4-9A7E-8E59D63A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4529C-3A7F-42AE-A27B-C355FAFD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96A4C-4879-4A88-B7D3-DC8EC9AB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A8071-9692-4EBB-B014-49A656DD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3A5C7-3189-47DA-8E0A-4E1BC31A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E1029-C492-4287-AB97-11B355C6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7FDD6-2411-4730-A66F-BD5D8288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8F16C-0B19-419A-9839-7B76CED7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48C20-2568-4F7C-BB6E-2C6B5A0C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8BECB-1592-4CA1-B188-DF6F1E27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F377A-74B7-43E4-8F7A-561B0B7A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328-4877-4127-BF3B-A309AFEE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2BBBD-12A0-4AA8-8599-87959926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96289-01AE-450D-91DD-2D1FB762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D7ED9-8490-43F9-8634-DD41C85D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7063E-A2AF-46C1-93DF-9C0708B5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AA752-FE23-4B70-A43E-EAB2CC58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9DEDF-B0FE-4D8B-900D-1CCA9592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1583E-EB3A-4EBD-B218-D5AE7082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9CCF1-87DD-4BF3-87A8-EA8D6BB9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0DA1A-4BB7-4B2F-9F60-C2D8BF5E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400D6-82D2-4971-943B-86366CAB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1634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56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56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56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D23B-2F28-49EA-850B-5899F61FAFF7}" type="slidenum">
              <a:rPr b="0" lang="ru-RU" sz="1200" spc="-1" strike="noStrike">
                <a:solidFill>
                  <a:srgbClr val="b856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b8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1634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b8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56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56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56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C6A5-20DC-49B3-B120-C9BFD61482B9}" type="slidenum">
              <a:rPr b="0" lang="ru-RU" sz="1200" spc="-1" strike="noStrike">
                <a:solidFill>
                  <a:srgbClr val="b856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1634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b8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56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56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56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ABAD-60EC-4FFE-8144-8253195C52D4}" type="slidenum">
              <a:rPr b="0" lang="ru-RU" sz="1200" spc="-1" strike="noStrike">
                <a:solidFill>
                  <a:srgbClr val="b856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d1d7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c5d1d7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d1d7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c5d1d7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d1d7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c5d1d7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d1d7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c5d1d7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1634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d1d7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c5d1d7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d1d7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c5d1d7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d1d7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c5d1d7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5d1d7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c5d1d7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56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56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56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724A-82B5-459A-ABC9-91384DE4F780}" type="slidenum">
              <a:rPr b="0" lang="ru-RU" sz="1200" spc="-1" strike="noStrike">
                <a:solidFill>
                  <a:srgbClr val="b856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1634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b8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56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56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56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84C5-4EE1-4EE7-9431-30CE9F3E7C8A}" type="slidenum">
              <a:rPr b="0" lang="ru-RU" sz="1200" spc="-1" strike="noStrike">
                <a:solidFill>
                  <a:srgbClr val="b856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1634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b8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56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56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56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1E10-3A28-496A-B935-470C917FE9CA}" type="slidenum">
              <a:rPr b="0" lang="ru-RU" sz="1200" spc="-1" strike="noStrike">
                <a:solidFill>
                  <a:srgbClr val="b856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1634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b8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56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56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56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8695-860D-43D1-88A2-A90CDE12A68B}" type="slidenum">
              <a:rPr b="0" lang="ru-RU" sz="1200" spc="-1" strike="noStrike">
                <a:solidFill>
                  <a:srgbClr val="b856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1634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b8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56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56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56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2AC5-5675-4065-A06A-A6AA80FF4231}" type="slidenum">
              <a:rPr b="0" lang="ru-RU" sz="1200" spc="-1" strike="noStrike">
                <a:solidFill>
                  <a:srgbClr val="b856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1634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1634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46b8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b8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56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56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56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4CC6-15BD-4A08-ACFD-1BB4765AC222}" type="slidenum">
              <a:rPr b="0" lang="ru-RU" sz="1200" spc="-1" strike="noStrike">
                <a:solidFill>
                  <a:srgbClr val="b856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Прямоугольник 3" descr=""/>
          <p:cNvPicPr/>
          <p:nvPr/>
        </p:nvPicPr>
        <p:blipFill>
          <a:blip r:embed="rId1"/>
          <a:stretch/>
        </p:blipFill>
        <p:spPr>
          <a:xfrm>
            <a:off x="1243080" y="682560"/>
            <a:ext cx="6791400" cy="27669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C:\Program Files\QIP Infium\Smilies\QIP Infium smilies\bq.gif"/>
          <p:cNvPicPr/>
          <p:nvPr/>
        </p:nvPicPr>
        <p:blipFill>
          <a:blip r:embed="rId2"/>
          <a:stretch/>
        </p:blipFill>
        <p:spPr>
          <a:xfrm>
            <a:off x="285840" y="3857760"/>
            <a:ext cx="1428840" cy="896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C:\Program Files\QIP Infium\Smilies\QIP Infium smilies\bq.gif"/>
          <p:cNvPicPr/>
          <p:nvPr/>
        </p:nvPicPr>
        <p:blipFill>
          <a:blip r:embed="rId3"/>
          <a:stretch/>
        </p:blipFill>
        <p:spPr>
          <a:xfrm>
            <a:off x="7358040" y="3929040"/>
            <a:ext cx="1455840" cy="9144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7"/>
          <p:cNvSpPr/>
          <p:nvPr/>
        </p:nvSpPr>
        <p:spPr>
          <a:xfrm>
            <a:off x="6000840" y="5786280"/>
            <a:ext cx="14396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a3d6"/>
                </a:solidFill>
                <a:uFillTx/>
                <a:latin typeface="Monotype Corsiva"/>
                <a:hlinkClick r:id="rId4" action="ppaction://hlinksldjump"/>
              </a:rPr>
              <a:t>Вперед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Содержимое 2" descr=""/>
          <p:cNvPicPr/>
          <p:nvPr/>
        </p:nvPicPr>
        <p:blipFill>
          <a:blip r:embed="rId1"/>
          <a:stretch/>
        </p:blipFill>
        <p:spPr>
          <a:xfrm>
            <a:off x="390600" y="1994040"/>
            <a:ext cx="8759880" cy="4608360"/>
          </a:xfrm>
          <a:prstGeom prst="rect">
            <a:avLst/>
          </a:prstGeom>
          <a:ln w="0">
            <a:noFill/>
          </a:ln>
        </p:spPr>
      </p:pic>
      <p:pic>
        <p:nvPicPr>
          <p:cNvPr id="404" name="Прямоугольник 3" descr=""/>
          <p:cNvPicPr/>
          <p:nvPr/>
        </p:nvPicPr>
        <p:blipFill>
          <a:blip r:embed="rId2"/>
          <a:stretch/>
        </p:blipFill>
        <p:spPr>
          <a:xfrm>
            <a:off x="1798560" y="-60480"/>
            <a:ext cx="5681880" cy="125604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4"/>
          <p:cNvSpPr/>
          <p:nvPr/>
        </p:nvSpPr>
        <p:spPr>
          <a:xfrm>
            <a:off x="6500880" y="60721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Вперед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Прямоугольник 5"/>
          <p:cNvSpPr/>
          <p:nvPr/>
        </p:nvSpPr>
        <p:spPr>
          <a:xfrm>
            <a:off x="5357880" y="6072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7" name="Picture 2" descr="C:\Program Files\QIP Infium\Smilies\QIP Infium smilies\ab.gif"/>
          <p:cNvPicPr/>
          <p:nvPr/>
        </p:nvPicPr>
        <p:blipFill>
          <a:blip r:embed="rId3"/>
          <a:stretch/>
        </p:blipFill>
        <p:spPr>
          <a:xfrm>
            <a:off x="285840" y="1143000"/>
            <a:ext cx="593640" cy="6429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C:\Program Files\QIP Infium\Smilies\QIP Infium smilies\ab.gif"/>
          <p:cNvPicPr/>
          <p:nvPr/>
        </p:nvPicPr>
        <p:blipFill>
          <a:blip r:embed="rId4"/>
          <a:stretch/>
        </p:blipFill>
        <p:spPr>
          <a:xfrm>
            <a:off x="8072280" y="1143000"/>
            <a:ext cx="54792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98440" y="444600"/>
            <a:ext cx="8699400" cy="86040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2" descr=""/>
          <p:cNvPicPr/>
          <p:nvPr/>
        </p:nvPicPr>
        <p:blipFill>
          <a:blip r:embed="rId2"/>
          <a:stretch/>
        </p:blipFill>
        <p:spPr>
          <a:xfrm>
            <a:off x="-2432160" y="963720"/>
            <a:ext cx="9436320" cy="5790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"/>
          <p:cNvPicPr/>
          <p:nvPr/>
        </p:nvPicPr>
        <p:blipFill>
          <a:blip r:embed="rId3"/>
          <a:stretch/>
        </p:blipFill>
        <p:spPr>
          <a:xfrm>
            <a:off x="3833640" y="1047600"/>
            <a:ext cx="5334120" cy="4499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4"/>
          <a:stretch/>
        </p:blipFill>
        <p:spPr>
          <a:xfrm>
            <a:off x="3833640" y="5048280"/>
            <a:ext cx="5334120" cy="183348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5"/>
          <p:cNvSpPr/>
          <p:nvPr/>
        </p:nvSpPr>
        <p:spPr>
          <a:xfrm>
            <a:off x="6135840" y="6488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Вперед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Прямоугольник 6"/>
          <p:cNvSpPr/>
          <p:nvPr/>
        </p:nvSpPr>
        <p:spPr>
          <a:xfrm>
            <a:off x="5124960" y="6488280"/>
            <a:ext cx="10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5" name="Picture 4" descr="C:\Program Files\QIP Infium\Smilies\QIP Infium smilies\aa.gif"/>
          <p:cNvPicPr/>
          <p:nvPr/>
        </p:nvPicPr>
        <p:blipFill>
          <a:blip r:embed="rId5"/>
          <a:stretch/>
        </p:blipFill>
        <p:spPr>
          <a:xfrm>
            <a:off x="500040" y="428760"/>
            <a:ext cx="571680" cy="4870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C:\Program Files\QIP Infium\Smilies\QIP Infium smilies\ay.gif"/>
          <p:cNvPicPr/>
          <p:nvPr/>
        </p:nvPicPr>
        <p:blipFill>
          <a:blip r:embed="rId6"/>
          <a:stretch/>
        </p:blipFill>
        <p:spPr>
          <a:xfrm>
            <a:off x="8215200" y="357120"/>
            <a:ext cx="6462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298440" y="444600"/>
            <a:ext cx="8699400" cy="860400"/>
          </a:xfrm>
          <a:prstGeom prst="rect">
            <a:avLst/>
          </a:prstGeom>
          <a:ln w="0">
            <a:noFill/>
          </a:ln>
        </p:spPr>
      </p:pic>
      <p:pic>
        <p:nvPicPr>
          <p:cNvPr id="418" name="Содержимое 2" descr=""/>
          <p:cNvPicPr/>
          <p:nvPr/>
        </p:nvPicPr>
        <p:blipFill>
          <a:blip r:embed="rId2"/>
          <a:stretch/>
        </p:blipFill>
        <p:spPr>
          <a:xfrm>
            <a:off x="298440" y="1457280"/>
            <a:ext cx="8875800" cy="4626000"/>
          </a:xfrm>
          <a:prstGeom prst="rect">
            <a:avLst/>
          </a:prstGeom>
          <a:ln w="0">
            <a:noFill/>
          </a:ln>
        </p:spPr>
      </p:pic>
      <p:sp>
        <p:nvSpPr>
          <p:cNvPr id="419" name="Прямоугольник 4"/>
          <p:cNvSpPr/>
          <p:nvPr/>
        </p:nvSpPr>
        <p:spPr>
          <a:xfrm>
            <a:off x="6429240" y="6143760"/>
            <a:ext cx="100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Вперед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Прямоугольник 5"/>
          <p:cNvSpPr/>
          <p:nvPr/>
        </p:nvSpPr>
        <p:spPr>
          <a:xfrm>
            <a:off x="5143680" y="6143760"/>
            <a:ext cx="10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1" name="Picture 3" descr="C:\Program Files\QIP Infium\Smilies\QIP Infium smilies\br.gif"/>
          <p:cNvPicPr/>
          <p:nvPr/>
        </p:nvPicPr>
        <p:blipFill>
          <a:blip r:embed="rId3"/>
          <a:stretch/>
        </p:blipFill>
        <p:spPr>
          <a:xfrm>
            <a:off x="500040" y="357120"/>
            <a:ext cx="793800" cy="657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C:\Program Files\QIP Infium\Smilies\QIP Infium smilies\ad.gif"/>
          <p:cNvPicPr/>
          <p:nvPr/>
        </p:nvPicPr>
        <p:blipFill>
          <a:blip r:embed="rId4"/>
          <a:stretch/>
        </p:blipFill>
        <p:spPr>
          <a:xfrm>
            <a:off x="8143920" y="428760"/>
            <a:ext cx="54756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pic>
        <p:nvPicPr>
          <p:cNvPr id="424" name="Содержимое 2" descr=""/>
          <p:cNvPicPr/>
          <p:nvPr/>
        </p:nvPicPr>
        <p:blipFill>
          <a:blip r:embed="rId2"/>
          <a:stretch/>
        </p:blipFill>
        <p:spPr>
          <a:xfrm>
            <a:off x="244440" y="1427040"/>
            <a:ext cx="8753400" cy="46562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3"/>
          <p:cNvSpPr/>
          <p:nvPr/>
        </p:nvSpPr>
        <p:spPr>
          <a:xfrm>
            <a:off x="6374160" y="621504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Прямоугольник 5"/>
          <p:cNvSpPr/>
          <p:nvPr/>
        </p:nvSpPr>
        <p:spPr>
          <a:xfrm>
            <a:off x="5124960" y="6215040"/>
            <a:ext cx="10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7" name="Picture 2" descr="C:\Program Files\QIP Infium\Smilies\QIP Infium smilies\bf.gif"/>
          <p:cNvPicPr/>
          <p:nvPr/>
        </p:nvPicPr>
        <p:blipFill>
          <a:blip r:embed="rId3"/>
          <a:stretch/>
        </p:blipFill>
        <p:spPr>
          <a:xfrm>
            <a:off x="-142920" y="1000080"/>
            <a:ext cx="930240" cy="604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C:\Program Files\QIP Infium\Smilies\QIP Infium smilies\bk.gif"/>
          <p:cNvPicPr/>
          <p:nvPr/>
        </p:nvPicPr>
        <p:blipFill>
          <a:blip r:embed="rId4"/>
          <a:stretch/>
        </p:blipFill>
        <p:spPr>
          <a:xfrm>
            <a:off x="8258040" y="1000080"/>
            <a:ext cx="88596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7:28:10Z</dcterms:created>
  <dc:creator>Дмитрий</dc:creator>
  <dc:description/>
  <dc:language>en-US</dc:language>
  <cp:lastModifiedBy>Дмитрий</cp:lastModifiedBy>
  <dcterms:modified xsi:type="dcterms:W3CDTF">2009-01-14T15:04:45Z</dcterms:modified>
  <cp:revision>13</cp:revision>
  <dc:subject/>
  <dc:title>Слайд 1</dc:title>
</cp:coreProperties>
</file>